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FCB0B-B044-4324-BD57-44F4B05F6B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C695-69D2-4B09-84E6-3263289B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1E69-A4AA-441E-8DF6-869F40DC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178E5-A16D-41F1-80CA-22197657F5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4BC64-27FC-4A89-96CE-2C163AC9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3383F-8C8F-448C-8536-36A38E68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3266E-72A9-4F56-A4BA-24EC2B3D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4E628-82F6-473C-B80B-C46B577C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A42AC-7422-4CC2-8E86-2E8B9432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BB09-4467-4080-AC32-9162DDFC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A3838-BDBE-4068-B08E-526CE3C1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C0B75-7B81-42C8-AFF5-2B6A4F0B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4E8F-BC00-48EC-94E9-2FAF6435C5F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第五节  吞咽功能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360" y="1844280"/>
            <a:ext cx="4038480" cy="4527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：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涎，唇闭合无力，鼓腮不能，构音障碍，舌无力影响咀嚼，吞咽后口内有食物残留，分次吞咽，仰头吞咽、低头吞咽，口阶段吞咽延迟，咽反射异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16000" y="1701720"/>
            <a:ext cx="4038840" cy="4524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吞咽障碍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唾液在口咽部聚集，不能咽下，需定期吐出，主咳嗽反射减弱、声音减弱或不能自主咳嗽，分次吞咽，吞咽延迟，结构上提幅度降低，无效吞咽作，咽下困难，鼻反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900000" y="191628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评定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解患者是否存在吞咽障碍，发生吞咽障碍的可能病因，找出吞咽过程中存在的解剖和生理异常，为制订康复治疗方案提供客观依据。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，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99640" y="2276280"/>
            <a:ext cx="7272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检查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服药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营养状态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00000" y="1988640"/>
            <a:ext cx="80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功能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唇的运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颌的位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软腭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喉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2133720"/>
            <a:ext cx="7407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反复唾液吞咽试验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冷按摩引发吞咽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饮水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摄食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06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饮水测试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得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内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一次饮完，但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能一次饮完，但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以上饮完，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呛咳多次发生，全部饮完有困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判断标准：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正常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可疑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以上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971640" y="148428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器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荧光透视检查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VFS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表面肌电图检查 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MG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钡造影检查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超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79DA-9D5D-4106-AB2F-FD8DAC1245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描述吞咽障碍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不同颅神经损伤对吞咽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饮水试验对脑卒中后吞咽障碍患者进行康复评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2124000" y="2562120"/>
            <a:ext cx="489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吞咽障碍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--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92000" y="2357280"/>
            <a:ext cx="756144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dysphagia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食物从口腔运送到胃的过程中出现障碍的一种表现。是一种常见的临床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99640" y="2060640"/>
            <a:ext cx="737244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整个吞咽过程分为五个阶段 ：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行期（认知期）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准备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1298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吞咽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9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092720" cy="4616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2700360" y="599508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阶段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71560" y="1844280"/>
            <a:ext cx="7408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三叉神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面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咽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迷走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下神经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吞咽有关的神经支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71560" y="1557360"/>
            <a:ext cx="7516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按有无解剖结构异常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器质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根据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结构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神经源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精神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55640" y="2349360"/>
            <a:ext cx="7408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根据发生吞咽障碍的阶段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: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1:07Z</dcterms:modified>
  <cp:revision>1</cp:revision>
  <dc:subject/>
  <dc:title>  第三章  康复护理评价</dc:title>
</cp:coreProperties>
</file>